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3" marL="15681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4" marL="201600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5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6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ffice.microsoft.com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Things%20to%20consider%20when%20presenting%20basic%20visual.doc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owerPoint Presentation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6019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Mr. McFadden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inding Cool Designs Like This One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Visit- </a:t>
            </a:r>
            <a:r>
              <a:rPr b="0" lang="en-US" sz="3200" spc="-1" strike="noStrike" u="sng">
                <a:solidFill>
                  <a:srgbClr val="a58779"/>
                </a:solidFill>
                <a:uFillTx/>
                <a:latin typeface="Verdana"/>
                <a:hlinkClick r:id="rId2"/>
              </a:rPr>
              <a:t>Microsoft Office Website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Click- Templates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Under Browse Templates select Presentations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elect different categories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Download one you like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How do you say the word, chaos?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Can’t say it- Pick another word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orrectly saying numbers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Not sure how to say this: 45,765,377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What should I do? 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Reading of Slide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A few points to make: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Do not read every word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Print out slides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Handouts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Take notes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an you read this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1ca6a"/>
                </a:solidFill>
                <a:latin typeface="Verdana"/>
              </a:rPr>
              <a:t>This is very difficult to read.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No full paragraphs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Cite paragraph it it’s not your own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Graphics should make text more clear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i.e. Food w/ picture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ings to consider when present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58779"/>
                </a:solidFill>
                <a:uFillTx/>
                <a:latin typeface="Verdana"/>
                <a:hlinkClick r:id="rId2"/>
              </a:rPr>
              <a:t>Thank you Mrs. Fritz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Questions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1" name="Picture 6" descr="C:\Documents and Settings\All Users\Documents\My Pictures\Kodak Pictures\2008-09-14\100b0213.jpg"/>
          <p:cNvPicPr/>
          <p:nvPr/>
        </p:nvPicPr>
        <p:blipFill>
          <a:blip r:embed="rId2"/>
          <a:srcRect l="7580" t="13466" r="9085" b="5723"/>
          <a:stretch/>
        </p:blipFill>
        <p:spPr>
          <a:xfrm>
            <a:off x="4343400" y="3733920"/>
            <a:ext cx="3395520" cy="2547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C:\Documents and Settings\All Users\Documents\My Pictures\Kodak Pictures\2008-09-14\100b0374.jpg"/>
          <p:cNvPicPr/>
          <p:nvPr/>
        </p:nvPicPr>
        <p:blipFill>
          <a:blip r:embed="rId3"/>
          <a:srcRect l="23044" t="4253" r="27945" b="32030"/>
          <a:stretch/>
        </p:blipFill>
        <p:spPr>
          <a:xfrm>
            <a:off x="1828800" y="3809880"/>
            <a:ext cx="1981080" cy="1932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C:\Documents and Settings\All Users\Documents\My Pictures\Kodak Pictures\2008-09-14\100_0359.jpg"/>
          <p:cNvPicPr/>
          <p:nvPr/>
        </p:nvPicPr>
        <p:blipFill>
          <a:blip r:embed="rId4"/>
          <a:stretch/>
        </p:blipFill>
        <p:spPr>
          <a:xfrm>
            <a:off x="914400" y="1676520"/>
            <a:ext cx="6934320" cy="1842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80880" y="3733920"/>
            <a:ext cx="8382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9:42:56Z</dcterms:created>
  <dc:creator>McFaddeR</dc:creator>
  <dc:description/>
  <cp:keywords/>
  <dc:language>en-US</dc:language>
  <cp:lastModifiedBy>McFaddeR</cp:lastModifiedBy>
  <dcterms:modified xsi:type="dcterms:W3CDTF">2009-03-10T19:20:08Z</dcterms:modified>
  <cp:revision>5</cp:revision>
  <dc:subject/>
  <dc:title>PowerPoint Present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291033</vt:lpwstr>
  </property>
</Properties>
</file>